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484A-B84A-44CB-BE1B-3661F8F34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8706-8FA5-4257-9E83-96A6A2E0F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0202B2-EDB6-4365-9290-08389C9A6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FEB573-BD4A-483B-B483-A68BC65D1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928357-FE60-4964-A81D-0C6B891B7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9DBE73-D9C2-467F-AE1A-34ACFAB8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68A44E-9AEF-4785-A9A6-5D28D5DA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3107F0-F31C-4DCE-93FA-3E5E3C80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F8DC13-8CE6-4C2E-91A2-8115EF81E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E6AE89-91A7-4482-8CE4-EFC0E91A5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E70BAC-912B-4E1F-9B18-849AE59D8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3D32F4-DAD5-4FA0-81D6-9EF61B49D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089F-2BFA-4EEC-AB6E-98D634F99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A3D750-31DE-426B-909E-444C79E69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FFB30B-7200-49B2-8326-88D5BF18E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F374C8-CE54-42FE-8712-0D23D33CB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FF2D1B-232C-4678-9457-7A886C981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166111-FED8-42EB-89E3-CD30CB82B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A75AE9-33EA-48B6-9D13-6410234C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12575B-D102-49F8-8C0D-83C3E621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3FF824-DC0E-40E3-873A-56078E36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085CAC-7AC2-4EAF-9367-6E5128AC8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33CC14-526E-4603-9577-5D329E3FA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8AD5-F1B7-4D84-9DFB-481B397F8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8038A7-C429-4BCC-BAA4-6AB0D0DB9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399206-111C-4EB0-A4CB-77B2AEDF8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A0C218-377A-436D-AFA2-70ECD80AA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05A50D-3BFC-4B41-9C2F-C9352C7D2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BB561F-3664-4F92-9C5F-51B9FBD87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41EED7-404D-4241-B4AF-0FE734EF6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851597-C104-43BA-AB1F-C62D061CB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F8B8D9-0C7C-4322-B418-A672B5DB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693F59-4F2D-41B3-9456-39660EA2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651E08-007B-41CB-898A-74CE5663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F04C4-AEAC-4AAE-ABC3-55BD027D2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B2191B-8B09-474F-A3A4-FDF9DE236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E066C2-E085-4B8D-8DAF-832169F50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1AB36E-6FE9-4FEE-BD35-A6A2AF7FD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14FDD1-E098-4AA8-90A6-B646424F3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50462E-6932-43B0-B10D-A180FFD50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4FA930-6511-410F-9111-89D80239F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0B493C-E2FC-4963-B214-EED751203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65A5CA-8513-493B-A78C-49777BF40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893284-2829-4E24-B450-5D1AC80D2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28F83F-78BE-4A17-BCF0-E670BEF4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E6FB9-9793-4CE0-89DA-4400A4FF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B7BF7F-D7B4-4FD6-9B37-57A551B2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F4EB79-82F9-4FF4-A4DE-3B4A1118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5ABC89-7CC2-49F9-9A6C-E40D72351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4DFAEC-290F-4390-A804-68ED08B35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2DE3AF-3968-4338-B919-C62E4A422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740DB1-20F9-4C6D-82FB-58428286C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9E97ED-9458-48E3-A8CE-E5C9BAA0D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A99F3B-5FC7-4200-ADB0-A28BC4A40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8051BE-89A6-4254-AF6C-B50C27FA5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76F2E5-4352-4A2C-BD8F-1BE9970C2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DCC5A-FAAD-4C13-9C1F-F3930A4B6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EE3CD9-2B7C-4BAD-830B-93EC63234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34A8CD-74E8-47C6-A31D-54A7EC04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7A6C89-15C7-4665-8570-293264C40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5E4505-9923-4F1B-8695-C344579A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EA6727-9019-4A13-B6CC-57F88B079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FB8EC1-82D6-471E-BDB3-52C049176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BDCEE2-FD1B-432C-AAAC-01676267A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8E4B1-52ED-4F11-802A-D2E6EC3B9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854C7-A4EB-4A3E-9E19-F66A68BCF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755BD-D501-45EE-AF48-96CF5CFB1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9A3F3-2AF8-4793-A6E7-2413D9DE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90AC-8B79-4303-B9F2-FC0A35C04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052F5-6C62-440C-B7E3-CE480D44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79720-2B8D-4D1D-B90A-2BA5F029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E137A-15D4-49A9-8D99-BF62D7872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5B6EC-4CA9-4EA1-8145-7F3AE48F2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3F83F-A126-4D87-A286-B7EDC21AF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C45C0-44AE-4FAB-B300-09298F33B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B5110-7CA7-48BD-B5D4-882946B9B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13905-8FA8-4D2E-8B28-FC1DD6533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14E36-9758-4E39-8CE7-486183A4B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86FD8-90A8-4982-9976-79D69BE88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13B8-8124-4C4D-8F92-AB3148D5C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9016D-366A-42EF-B988-AE2C18BD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8FA3B-4050-4650-8A84-34296297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70929-287D-44F2-96A4-34BAAF3E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434F9-04E2-4301-8306-0603EBC3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54756-A5AD-49F8-BD01-A41289970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3DF30-8436-4877-9A0B-3458729D3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0C42B-4CDE-412B-9FA4-F5A5D5D5E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A19A1-DB75-4309-81B7-7084314BA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4A94D-140C-4E60-AA29-032803A0E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ACD14-9256-4D43-B7BE-506A9CE0D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0581-A910-4947-99B1-ABDCE228B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A26D2-2C27-403C-8F87-E1FBFD756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96ACF-63CB-4FCE-B59C-0A4CA81FB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AD1C0-5A87-4C0F-8122-10A62B666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09917-91E5-420D-82EC-57893B7B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F1B5A-403F-4F40-A18D-0B734C27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57B1F-7124-4969-8FEE-CC89BA24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B4740-0CF3-4EAA-8685-4D225695B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FE975-8731-4073-833C-9EDCF6881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C49BB-BE21-4D8E-BA23-26F8B7A3A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AD3C2-3AB7-49E7-ACF6-427CF8992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EC25-F906-46CC-BC98-B0EA88852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9F0FD-4999-424C-A70B-CD7A76DC0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7C643-E193-4C0A-B42F-4786A8F12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A1BC5-9FCA-43E7-B19C-00A1D6742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978A0-8C25-499D-BA68-40E89737B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05D00-0959-45EF-890C-CD953453D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70083-07F8-493B-A42C-9C302424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CFFE6-43E9-4EF8-9B3C-54F7C280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6A8B4-2659-472B-A6DF-259466E3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DFBFF-C77F-4C0F-9A0D-1115727D9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50E38-B9BB-4919-860C-847AFF30D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F654-BC2F-417B-ABB3-E46DD3598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2F7C1-54D4-4EA8-980C-5DA984F73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D38EC-0E07-41AB-B89E-AE1611AE5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4DAC2-8964-4D98-8ACF-76C748702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EA4F3-BE48-43E7-949E-C18F8B4E4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34249-6A59-4581-89FA-A42A959D5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E591D-0616-41AD-97D2-7EEF1AE5E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B06F3-9D82-4780-9247-58F4CAD22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F125C8-D5AF-4797-BDA1-95AE45C2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91BDBC-BBAF-458F-90BF-075D2C83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9E870-41F2-40BD-BDB2-1FCC9A9E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73E2-E199-4C68-BDAB-E135AC31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5FFCA-41B7-42B0-8F04-DE95FD2AE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280D66-AA71-4154-AAC7-20081AA77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F39200-7449-4AA1-B78D-B8260B92A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799CA1-F5BF-471C-A254-35812DAE6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180EB6-77C4-495B-BAC8-B4EC70A6D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1C9311-17D9-408F-AD87-210D4282D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AB99A-BB82-4AB0-BBE8-A752E4188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2978F5-3F21-4C79-9A1E-7C1B2E1A2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8150F-0AE7-41FF-8464-F7DA6B295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4781F-477E-4DFB-B630-F0DBC1E6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58E3-0824-4D4E-B9E2-56914C6E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0EC28-FC50-42C0-869C-B7346EE0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DF7E43-7EAB-4D17-8C70-7B007342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88D09-22D1-46EC-960E-C4EB09E1A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1C62E-2F5F-44E9-AC58-5A5A8F5A8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390FD-0A67-4625-8594-23CFCDB62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BBBFB-A15B-4255-BE62-282F5012B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C20CE-EB35-4AE0-88E4-E5459FDCE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0D1B52-1723-463B-A3F1-524983526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7A1F28-1A98-4884-857E-23F63DD40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114772-DF79-4743-BEBB-5F48936FE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2DA2-6FAA-4E23-A398-80F08E14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D0067C-0ACC-4CB3-8464-77D6828BB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4C9F2-4E88-44F1-89BA-042D6CE3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3704C5-7DC6-4E49-92C3-A993EAA9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A3BFB3-34C9-46AE-AD7B-2AB76A23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0980DB-0CED-4F78-B8AE-D21B79F4E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96E598-DC17-4289-A203-4D9280E09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CEBE19-7A2D-45AA-B2F1-B1AA85C63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7FE60C-A891-4242-BC89-5626FE050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68B088-0321-4036-B6C5-44F556175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983AFD-E1D6-4EF4-861B-B16908A7D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29838-8415-4B0D-9A88-EDF8C60658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31AD7-626B-4B33-8B98-CF258ABF9F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93793-4D48-4A41-B6E2-F770239ACF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AB1E6-D816-4A1D-8F78-F7AB4E6F1E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BDCC5-2319-4AD8-9B68-45477CEFAE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677B4-5C8F-4542-90AB-F103E38E69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58915-FBFB-437D-AB7F-EB832AEFD1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C5690-8DCF-4021-8491-D81B9A2084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C366B-ECA2-43D4-BA2C-3E75298E1A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6A4EB-5BE8-4D9A-A77A-5FF4D8225B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5BC9A-0B25-4F6B-BF50-9A97E825EB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52A7C-F073-4139-A09F-7F44BEC5159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8FBC1-4683-476A-B3CA-163A9AEF2F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qy8dk5iS1f0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youtube.com/watch?v=Jocshym0TI4" TargetMode="External"/><Relationship Id="rId3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ubTitle"/>
          </p:nvPr>
        </p:nvSpPr>
        <p:spPr>
          <a:xfrm>
            <a:off x="0" y="28195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b86"/>
                </a:solidFill>
                <a:latin typeface="Georgia"/>
              </a:rPr>
              <a:t>WHO HELPED FORM OUR UNDERSTANDING OF DNA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d16349"/>
                </a:solidFill>
                <a:latin typeface="Georgia"/>
              </a:rPr>
              <a:t>History of DNA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1"/>
          <a:stretch/>
        </p:blipFill>
        <p:spPr>
          <a:xfrm>
            <a:off x="2933640" y="3657600"/>
            <a:ext cx="3276720" cy="24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7b9899"/>
                </a:solidFill>
                <a:latin typeface="Georgia"/>
              </a:rPr>
              <a:t>The </a:t>
            </a:r>
            <a:r>
              <a:rPr b="1" i="1" lang="en-US" sz="3300" spc="-1" strike="noStrike">
                <a:solidFill>
                  <a:srgbClr val="7b9899"/>
                </a:solidFill>
                <a:latin typeface="Georgia"/>
              </a:rPr>
              <a:t>RACE</a:t>
            </a:r>
            <a:r>
              <a:rPr b="1" lang="en-US" sz="3300" spc="-1" strike="noStrike">
                <a:solidFill>
                  <a:srgbClr val="7b9899"/>
                </a:solidFill>
                <a:latin typeface="Georgia"/>
              </a:rPr>
              <a:t> to DNA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1950’s had three schools looking to be the DNA champ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California  Institute of Technology – Linus Pauling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Cavendish in Cambridge, England – James Watson and Francis Crick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King’s College in London – Maurice Wilkins &amp; Rosalind Franklin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atson’s small mistake?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ilkins and Franklin…co-workers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ilkins and Watson…the perfect friendship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/>
          </p:nvPr>
        </p:nvSpPr>
        <p:spPr>
          <a:xfrm>
            <a:off x="301320" y="1523880"/>
            <a:ext cx="4040280" cy="7336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eorgia"/>
              </a:rPr>
              <a:t>Watson &amp; Crick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790880" y="1523520"/>
            <a:ext cx="4041720" cy="7318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eorgia"/>
              </a:rPr>
              <a:t>Rosalind Frankiln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301320" y="2471400"/>
            <a:ext cx="4041720" cy="38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illing to jump to conclusion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wo backbones that go opposite direction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ase pairing from one side to the oth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A – T &amp; C – G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4800600" y="2471760"/>
            <a:ext cx="4038480" cy="382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ubborn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wo backbone that go in the same direc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idsection crossing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7b9899"/>
                </a:solidFill>
                <a:latin typeface="Georgia"/>
              </a:rPr>
              <a:t>Watson and Crick vs. Frankli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/>
          </p:nvPr>
        </p:nvSpPr>
        <p:spPr>
          <a:xfrm>
            <a:off x="380880" y="259056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b86"/>
                </a:solidFill>
                <a:latin typeface="Georgia"/>
              </a:rPr>
              <a:t>“</a:t>
            </a:r>
            <a:r>
              <a:rPr b="1" lang="en-US" sz="2400" spc="-1" strike="noStrike">
                <a:solidFill>
                  <a:srgbClr val="646b86"/>
                </a:solidFill>
                <a:latin typeface="Georgia"/>
              </a:rPr>
              <a:t>[FRANKLIN] WOULD HAVE BEEN FAMOUS FOR HAVING FOUND DNA IF SHE'D JUST TALKED TO FRANCIS [CRICK] FOR AN HOUR." THE FACT THAT FRANKLIN DIDN'T TALK TO ANYONE, HER UNWILLINGNESS TO BUILD MODELS, AND HER STUBBORNNESS IN STICKING TO CLASSICAL MATHEMATICS HELD HER BACK IMMENSELY [JUDSON, 1986]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eorgia"/>
              </a:rPr>
              <a:t>A Quote from Watson (1993)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7b9899"/>
                </a:solidFill>
                <a:latin typeface="Georgia"/>
              </a:rPr>
              <a:t>Structure of DNA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NA is a long molecule made up of units called nucleotide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ach nucleotide is made up of three parts: a 5-carbon sugar called dioxyribose, a phosphate group, and a nitorgenous base (Nitrogen Containing)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backbone of DNA is formed by sugar and phosphate groups of the nucleotide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nitrogenous base stick out from the sides and can be joined together in any order, meaning that any sequence of bases is possible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8" name="Picture 2" descr="http://nanopedia.case.edu/image/DNA%20structure.jpg"/>
          <p:cNvPicPr/>
          <p:nvPr/>
        </p:nvPicPr>
        <p:blipFill>
          <a:blip r:embed="rId1"/>
          <a:stretch/>
        </p:blipFill>
        <p:spPr>
          <a:xfrm>
            <a:off x="1143000" y="1295280"/>
            <a:ext cx="6665760" cy="5181840"/>
          </a:xfrm>
          <a:prstGeom prst="rect">
            <a:avLst/>
          </a:prstGeom>
          <a:ln w="0">
            <a:noFill/>
          </a:ln>
        </p:spPr>
      </p:pic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7b9899"/>
                </a:solidFill>
                <a:latin typeface="Georgia"/>
              </a:rPr>
              <a:t>DNA Basic Structur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7b9899"/>
                </a:solidFill>
                <a:latin typeface="Georgia"/>
              </a:rPr>
              <a:t>Base Pairing - BOND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91" name="Picture 2" descr="http://nanopedia.case.edu/image/Base%20Pairing.jpg"/>
          <p:cNvPicPr/>
          <p:nvPr/>
        </p:nvPicPr>
        <p:blipFill>
          <a:blip r:embed="rId1"/>
          <a:stretch/>
        </p:blipFill>
        <p:spPr>
          <a:xfrm>
            <a:off x="1346040" y="1600200"/>
            <a:ext cx="65026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7b9899"/>
                </a:solidFill>
                <a:latin typeface="Georgia"/>
              </a:rPr>
              <a:t>DNA Video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93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2600" y="1908000"/>
            <a:ext cx="6553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7b9899"/>
                </a:solidFill>
                <a:latin typeface="Georgia"/>
              </a:rPr>
              <a:t>History of Genetic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eople have known about inheritance for a long tim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--children resemble their parent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--domestication of animals and plants, selective breeding for good characteristic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--Sumerian horse breeding record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--Egyptian data palm breed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--Bible and hemophili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7b9899"/>
                </a:solidFill>
                <a:latin typeface="Georgia"/>
              </a:rPr>
              <a:t>Old Idea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espite knowing about inheritance in general, a number of incorrect ideas had to be generated and overcome before modern genetics could arise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.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All life comes from other life.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Living organisms are not spontaneously generated from non-living material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.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Species concept: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offspring arise only when two members of the same species mate.  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Monstrous hybrids don’t exist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7b9899"/>
                </a:solidFill>
                <a:latin typeface="Georgia"/>
              </a:rPr>
              <a:t>More Old Idea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301680" y="1527120"/>
            <a:ext cx="7547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3.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Organisms develop by expressing information carried in their hereditary material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 As opposed to “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preformation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”, the idea that in each sperm (or egg) is a tiny, fully-formed human that merely grows in size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4.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The environment can’t alter the hereditary material in a directed fashion.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There is no “inheritance of acquired characteristics”.  Mutations are random event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5" name="" descr=""/>
          <p:cNvPicPr/>
          <p:nvPr/>
        </p:nvPicPr>
        <p:blipFill>
          <a:blip r:embed="rId1"/>
          <a:stretch/>
        </p:blipFill>
        <p:spPr>
          <a:xfrm>
            <a:off x="7696080" y="1609560"/>
            <a:ext cx="1257480" cy="36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7b9899"/>
                </a:solidFill>
                <a:latin typeface="Georgia"/>
              </a:rPr>
              <a:t>More Old Idea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5. </a:t>
            </a: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Male and female parents contribute equally to the offspring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--ancient Greek idea: male plants a “seed” in the female “garden”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--alleged New Guinea belief: sex is not related to reproductio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7b9899"/>
                </a:solidFill>
                <a:latin typeface="Georgia"/>
              </a:rPr>
              <a:t>Key people in DNA’s Discover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eorgia"/>
              </a:rPr>
              <a:t>Griffith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– Experimented on mice and observed some harmless strains of bacteria could change into harmful strains.  He called this transformatio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Picture 6" descr="griffithexperiment"/>
          <p:cNvPicPr/>
          <p:nvPr/>
        </p:nvPicPr>
        <p:blipFill>
          <a:blip r:embed="rId1"/>
          <a:stretch/>
        </p:blipFill>
        <p:spPr>
          <a:xfrm>
            <a:off x="291960" y="228600"/>
            <a:ext cx="85330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7b9899"/>
                </a:solidFill>
                <a:latin typeface="Georgia"/>
              </a:rPr>
              <a:t>Key people in DNA’s Discover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eorgia"/>
              </a:rPr>
              <a:t>Avery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– Discovered that DNA is the nucleic acid that stores and transmits the genetic information from one generation to the next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eorgia"/>
              </a:rPr>
              <a:t>Hershey-Chase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– Concluded that the genetic material in bacteria was DNA not protein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eorgia"/>
              </a:rPr>
              <a:t>Watson &amp; Crick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– created the double helix model for DNA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7b9899"/>
                </a:solidFill>
                <a:latin typeface="Georgia"/>
              </a:rPr>
              <a:t>Chargaff’s Rul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hargaff discovered how the nitrogenous bases bond together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e discovered that Adenin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always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onds with Thymine and that Cytosin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alway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bonds with Guanine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5" name="Picture 5" descr="Life7e-Fig-11-05-0%20Chargaff's%20rule"/>
          <p:cNvPicPr/>
          <p:nvPr/>
        </p:nvPicPr>
        <p:blipFill>
          <a:blip r:embed="rId1"/>
          <a:stretch/>
        </p:blipFill>
        <p:spPr>
          <a:xfrm>
            <a:off x="4648320" y="2325600"/>
            <a:ext cx="4038480" cy="3079800"/>
          </a:xfrm>
          <a:prstGeom prst="rect">
            <a:avLst/>
          </a:prstGeom>
          <a:ln w="0">
            <a:noFill/>
          </a:ln>
        </p:spPr>
      </p:pic>
      <p:sp>
        <p:nvSpPr>
          <p:cNvPr id="676" name="TextBox 4"/>
          <p:cNvSpPr/>
          <p:nvPr/>
        </p:nvSpPr>
        <p:spPr>
          <a:xfrm>
            <a:off x="7675200" y="6019920"/>
            <a:ext cx="1287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a3d6"/>
                </a:solidFill>
                <a:uFillTx/>
                <a:latin typeface="Georgia"/>
                <a:hlinkClick r:id="rId2"/>
              </a:rPr>
              <a:t>Video Clip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02:59:00Z</dcterms:created>
  <dc:creator>John AJ O'Connor</dc:creator>
  <dc:description/>
  <dc:language>en-US</dc:language>
  <cp:lastModifiedBy>joconnor</cp:lastModifiedBy>
  <dcterms:modified xsi:type="dcterms:W3CDTF">2010-11-30T13:49:12Z</dcterms:modified>
  <cp:revision>32</cp:revision>
  <dc:subject/>
  <dc:title>Slide 1</dc:title>
</cp:coreProperties>
</file>